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884-C336-4FEE-9D43-AFA3D858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EB8-D296-4384-9AAE-F11DA49D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5AE-9827-473F-B8FA-C21D536C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7E2-893D-477B-9265-26CF3EC3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DF64-0640-4E04-9732-FAAA7DAF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15D3-2B82-4E83-9676-A0646C0A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EAAD-4437-4BB8-91DB-A8D4A05B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9F5F-442F-4AB4-9AA2-FD2C8954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68DA-4D33-4C83-AB13-BFB448BD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CD29-332D-4182-B816-4C559F55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3288-41E1-46D2-86CD-D8E2C542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0D2-236A-4D86-BD14-89661B80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5A86-C670-4F87-8CBA-4F23A58C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B422-D494-40FF-9953-812FD8ED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066C-A4A1-471B-B2CA-F5A29197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27DD-8048-48A8-AFBA-660042C8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1FF9-5143-45DD-925E-19671FC0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8C6-99EB-4DC1-AFC2-E7B06B12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4DB-892D-4028-A1A1-65F974D0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A22-3F0E-4DE9-8035-A91FC1A6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611-801A-4009-ADA2-42FC710E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5AC-00F0-4032-A4B7-319D61BC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053-6B53-497E-8CB0-0B18E01D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D5B-C468-4D9D-BC60-176C85FF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45D7-5837-4A1A-B48B-6B82D4034ED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4DC6-1B51-40FB-A5D7-3377E49618F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414360" y="433440"/>
            <a:ext cx="8315280" cy="97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42600" y="142848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5bb0"/>
                </a:solidFill>
                <a:latin typeface="Times New Roman"/>
              </a:rPr>
              <a:t>НАЙДИ СЛОВА С  </a:t>
            </a:r>
            <a:r>
              <a:rPr b="1" i="1" lang="ru-RU" sz="2200" spc="-1" strike="noStrike">
                <a:solidFill>
                  <a:srgbClr val="375bb0"/>
                </a:solidFill>
                <a:latin typeface="Times New Roman"/>
              </a:rPr>
              <a:t>НЕПРОИЗНОСИМОЙ</a:t>
            </a:r>
            <a:r>
              <a:rPr b="1" lang="ru-RU" sz="2200" spc="-1" strike="noStrike">
                <a:solidFill>
                  <a:srgbClr val="375bb0"/>
                </a:solidFill>
                <a:latin typeface="Times New Roman"/>
              </a:rPr>
              <a:t>  СОГЛАСНОЙ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000080" y="250020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КУС…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1000080" y="3571920"/>
            <a:ext cx="35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ЛОВЕС…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000080" y="457200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АС…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521496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ВЁЗ…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214960" y="357192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ДОС…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5214960" y="457200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УДЕС…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6516720" y="24922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6877080" y="35733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414360" y="433440"/>
            <a:ext cx="8315280" cy="974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42960" y="1428480"/>
            <a:ext cx="814392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5bb0"/>
                </a:solidFill>
                <a:latin typeface="Times New Roman"/>
              </a:rPr>
              <a:t>НАЙДИ СЛОВА, В КОТОРЫХ  НЕ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5bb0"/>
                </a:solidFill>
                <a:latin typeface="Times New Roman"/>
              </a:rPr>
              <a:t>                                  </a:t>
            </a:r>
            <a:r>
              <a:rPr b="1" i="1" lang="ru-RU" sz="2200" spc="-1" strike="noStrike">
                <a:solidFill>
                  <a:srgbClr val="375bb0"/>
                </a:solidFill>
                <a:latin typeface="Times New Roman"/>
              </a:rPr>
              <a:t>НЕПРОИЗНОСИМОЙ</a:t>
            </a:r>
            <a:r>
              <a:rPr b="1" lang="ru-RU" sz="2200" spc="-1" strike="noStrike">
                <a:solidFill>
                  <a:srgbClr val="375bb0"/>
                </a:solidFill>
                <a:latin typeface="Times New Roman"/>
              </a:rPr>
              <a:t>  СОГЛАСНОЙ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000080" y="2500200"/>
            <a:ext cx="35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ЕС…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000080" y="357192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АЗ…НИК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1000080" y="457200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Р…Ц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21496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…НЦ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286240" y="350028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З…НО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5286240" y="450072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РОЗ…НО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2340000" y="35733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6443640" y="35002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2195640" y="45813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6156360" y="242100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Courier New"/>
              </a:rPr>
              <a:t>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420840" y="353880"/>
            <a:ext cx="8315280" cy="1054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42960" y="1428480"/>
            <a:ext cx="81439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5bb0"/>
                </a:solidFill>
                <a:latin typeface="Times New Roman"/>
              </a:rPr>
              <a:t>НАЙДИ СЛОВА, В КОТОРЫХ Н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5bb0"/>
                </a:solidFill>
                <a:latin typeface="Times New Roman"/>
              </a:rPr>
              <a:t>                              </a:t>
            </a:r>
            <a:r>
              <a:rPr b="1" i="1" lang="ru-RU" sz="2400" spc="-1" strike="noStrike">
                <a:solidFill>
                  <a:srgbClr val="375bb0"/>
                </a:solidFill>
                <a:latin typeface="Times New Roman"/>
              </a:rPr>
              <a:t>НЕПРОИЗНОСИМОЙ</a:t>
            </a:r>
            <a:r>
              <a:rPr b="1" lang="ru-RU" sz="2400" spc="-1" strike="noStrike">
                <a:solidFill>
                  <a:srgbClr val="375bb0"/>
                </a:solidFill>
                <a:latin typeface="Times New Roman"/>
              </a:rPr>
              <a:t>  СОГЛАС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000080" y="271476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ЗВЕС…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000080" y="371484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С…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1000080" y="478620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ЕС…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214960" y="27147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С…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5214960" y="371484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АС…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5214960" y="478620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ЖАС…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1928880" y="371484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2214720" y="47862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2627280" y="27082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6572160" y="27147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2"/>
          <a:stretch/>
        </p:blipFill>
        <p:spPr>
          <a:xfrm>
            <a:off x="420840" y="353880"/>
            <a:ext cx="8315280" cy="1054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42960" y="1428480"/>
            <a:ext cx="81439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5bb0"/>
                </a:solidFill>
                <a:latin typeface="Times New Roman"/>
              </a:rPr>
              <a:t>НАЙДИ, В КАКОМ СЛОВ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5bb0"/>
                </a:solidFill>
                <a:latin typeface="Times New Roman"/>
              </a:rPr>
              <a:t>                                         </a:t>
            </a:r>
            <a:r>
              <a:rPr b="1" lang="ru-RU" sz="2400" spc="-1" strike="noStrike">
                <a:solidFill>
                  <a:srgbClr val="375bb0"/>
                </a:solidFill>
                <a:latin typeface="Times New Roman"/>
              </a:rPr>
              <a:t>ДОПУЩЕНА  ОШИБ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1000080" y="271476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РУ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000080" y="371484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ЕКРАС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000080" y="4786200"/>
            <a:ext cx="350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Е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214960" y="27147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РОСТ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5214960" y="37148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ЖАС   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5214960" y="478620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ИЗВЕСТ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6643800" y="37148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2"/>
          <a:stretch/>
        </p:blipFill>
        <p:spPr>
          <a:xfrm>
            <a:off x="420840" y="353880"/>
            <a:ext cx="8315280" cy="1054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42960" y="1428480"/>
            <a:ext cx="81439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5bb0"/>
                </a:solidFill>
                <a:latin typeface="Times New Roman"/>
              </a:rPr>
              <a:t>НАЙДИ, В КАКОМ СЛОВ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5bb0"/>
                </a:solidFill>
                <a:latin typeface="Times New Roman"/>
              </a:rPr>
              <a:t>                                         </a:t>
            </a:r>
            <a:r>
              <a:rPr b="1" lang="ru-RU" sz="2400" spc="-1" strike="noStrike">
                <a:solidFill>
                  <a:srgbClr val="375bb0"/>
                </a:solidFill>
                <a:latin typeface="Times New Roman"/>
              </a:rPr>
              <a:t>ДОПУЩЕНА  ОШИБ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1000080" y="271476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ЛЕСТНИ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000080" y="371484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СТ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1000080" y="4786200"/>
            <a:ext cx="32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ПУС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5214960" y="27147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УДЕСНЫ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5214960" y="37148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УВ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214960" y="478620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ДНИ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1000080" y="4786200"/>
            <a:ext cx="32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ПУСТ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1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c74d8"/>
                                      </p:to>
                                    </p:animClr>
                                    <p:animClr clrSpc="rgb">
                                      <p:cBhvr>
                                        <p:cTn id="142" dur="1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c74d8"/>
                                      </p:to>
                                    </p:animClr>
                                    <p:set>
                                      <p:cBhvr>
                                        <p:cTn id="143" dur="1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6:51:25Z</dcterms:created>
  <dc:creator>Игорь Саченко</dc:creator>
  <dc:description/>
  <dc:language>en-US</dc:language>
  <cp:lastModifiedBy>Игорь Саченко</cp:lastModifiedBy>
  <dcterms:modified xsi:type="dcterms:W3CDTF">2009-01-26T03:08:49Z</dcterms:modified>
  <cp:revision>12</cp:revision>
  <dc:subject/>
  <dc:title>Непроизносимые   согласные</dc:title>
</cp:coreProperties>
</file>